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035-E974-4502-A2B2-3E254B3F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1567-9FF2-467A-B259-482A2742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3D1-FE44-4EAC-BAFF-D998F1EA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EA8-464F-4AFC-9D4C-03245011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527-DAF1-4933-93FD-2565BBB9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3A79-8C44-46F4-8DE0-F2E414FF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53EF-95EC-47B7-88C7-F0F76ABA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1804-2DE3-4524-BD82-2B93F736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C449-06D7-48C7-95F0-B4802D87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6F33-EF98-4124-84B7-E2536A7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DB8C-4C5D-4913-821C-84C1297A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FC5-B2F8-48E2-B6C4-E2FC1EE0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1664-F49B-4274-8171-C1A17CC6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77D4-C9A1-4149-9442-362393D9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F39C-87E8-4225-B15D-9606E4EE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2219-25C9-41AC-AD6A-FD49DFB7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8A40-408A-4D93-90D3-E02E15A1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2451-0C88-42F6-B123-E15FB58B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C551-4954-4E56-9D08-E38767DD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79DD-A69C-4538-9C5E-DB18E1E3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3C33-D433-4AA4-A4E4-9DFE04B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377A6-CD44-4258-B2B4-2A23C3C6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6FF-29D8-4A94-AF60-435F19C6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AED3-49F9-4DE2-B173-31CBE9B6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D0FC-9A9C-45C5-9EE7-D17BA6A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0D43-8AFD-47D8-8BC4-52478265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19F10-78D2-44AE-80AE-6D912F7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80EB-F99E-4254-A65C-02AD5A1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A7B1-78CF-4E3E-8910-DB7D58EA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629B-2675-4EA2-9A88-2EA60724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FCB9-8DB5-4C24-99A4-5389B51E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4B654-99B2-4845-B74C-DC0FBDC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DCF7-3925-4C78-B503-80913F4F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BB0-82F5-440E-9617-DD6B0974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63C7-7487-45F9-8E45-B3EB9079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837F-7F69-4360-AAC5-599E1008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8F13-5B22-4B2F-9C85-D2A19C87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46FD5-4CFC-4515-8525-34957785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096B-A2A7-46D3-8BA3-540C7A9A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8B12-08FD-4DA2-BA2B-932EC386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59375-6193-40DA-BD14-10222F80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E968-6588-4638-8FD7-F19B2BD3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B0BD9-476B-44DC-9EDD-91E665A5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5258C-0764-442B-9C00-1EEF99B4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93E-8CAC-4725-9026-BBFE7E5D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F1A11-E589-46B6-8B8E-245820F0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82C79-F550-40BC-921F-A4B0D9D7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A9196-D817-4D7F-82F9-A2FC28C9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C566-3DB9-4AE8-A34D-B7E32BB9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48EFA-38BE-4F9B-AAFA-AB59D8A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1A61-5050-472F-B147-743E06EA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4B48-469E-48D9-81CA-6126C9AB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EB02A-8569-4F55-A4D3-406F6EC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3C21-8070-4260-8F8D-578A9281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ABC4-241E-4151-96AA-ECB132C4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826-6118-481B-A921-6ECEDA29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5B5DC-C916-4D1B-AE65-729F85F1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AE8-EE02-4B9E-99DC-158260A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859-4818-4FF8-8AF7-020A8A94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985-5800-48CB-BFEC-C1576CF7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2C8C-AF40-45B5-A7D1-2866D8E4065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FA15-850B-4199-B77B-708A66008F7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03C1-FB91-4F6F-BB83-5CC797BD6FA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0A9A-502E-491C-8846-E5413F9A7909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2BE-E269-4F60-8666-CF3008BECB4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; Danny and Dako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; Mrs.Chamb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8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 symbol for a number we don't know yet. It is usually a letter like x or 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ample: in x + 2 = 6, x is the varia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f it is not a variable it is called a Constan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sed on 1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: the numbers we use in everyday life are decimal numbers, because there are 10 of them (0,1,2,3,4,5,6,7,8 and 9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ten "decimal number" is also used to mean a number that uses a decimal point followed by digits as a way of showing values less than on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: 1.9 is a decimal number (one and nine ten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number with no fractional par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udes the counting numbers {1, 2, 3, ...}, zero {0}, and the negative of the counting numbers {-1, -2, -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can write them down like this: {..., -3, -2, -1, 0, 1, 2, 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amples of integers: -16, -3, 0, 1, 19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9:30Z</dcterms:created>
  <dc:creator>danny.gilley</dc:creator>
  <dc:description/>
  <dc:language>en-US</dc:language>
  <cp:lastModifiedBy>lucy.chambers</cp:lastModifiedBy>
  <dcterms:modified xsi:type="dcterms:W3CDTF">2010-11-23T14:37:53Z</dcterms:modified>
  <cp:revision>5</cp:revision>
  <dc:subject/>
  <dc:title>vocabulary</dc:title>
</cp:coreProperties>
</file>